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96A-4D1B-4601-B7BA-028DD9F2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837F-5EE0-4C53-8487-AF8B8A12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E57-6967-4F2A-9012-79B17CF1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00F-9CDC-4DAA-A2BE-0B0D6757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90AD-750D-42E5-AB54-A058F7C3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39EF-FA2D-448B-85E4-EB5522BF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C2E2-49C2-4F0C-B8BE-E801EA37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096D-A7D5-4896-877E-7D40EDE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C2A5-9B36-4D4B-B509-FD5AC440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5311-BFA9-428D-8511-683DB5D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5167-33C4-4DB1-9E4A-BED2DA9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DDF-6FF8-46AF-A182-2B08A667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070-FCF9-4129-89CB-A1386B52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E0E9-70BE-4562-9722-41F7A30A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DEBA-14E8-46D3-AE49-18E9988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C65C-D776-4117-8A39-14A700CD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5ADC-430F-4858-8E3F-0327C8B9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7E15-A300-4B15-BA45-FCDE7BEF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2322-00AE-46EA-80D7-E3D090EB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6397E-D8E7-4E2A-BDF0-9654996F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4330-56DB-4247-A451-DD0C9C45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A211-669A-4301-B3C8-BAF9483A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B1A-E6A3-4BB5-B6AF-3EE251E2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481A-2E07-43BB-B576-1FD71E87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4FD8-AA71-403B-ACD8-FA013CBF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BE01-831B-416A-82B4-B6591DF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A20D-AD94-485A-885E-D47E0124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592F-BE81-4716-86FF-FEF53BF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D939-31F7-45F1-87B8-C3A23384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075E0-002E-49FF-B23A-CCD3AF54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2BB57-1B3F-4F68-AFBC-813E186E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114B-6C3B-429A-8F95-C6CF45F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5CD38-2679-4DB5-8922-CC33189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5487-7066-4E29-9D29-5AC01B27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BC091-B480-4A7A-9E4C-8C4E979C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82F3-CF46-42C5-9E97-4D665FE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E346C-7B44-4664-BF90-2A18B8FE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FEE8B-8BC4-49E2-96C2-ABAEDEBB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8E9E-E754-458B-AAE9-D3FBA14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D946-8FD8-44D9-8F57-6B5970D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1D1E3-E8D1-41A7-9909-B23F02DD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577BB-9A83-42CD-A2CE-C3EF3B86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77BE-BD16-4A7C-ABA6-54E0E063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81F31-FD20-4D01-8C88-CB245E82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D1D-7291-49B4-8497-B6E7B4E2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7CC4F-6F6C-4541-9A75-F43C5E07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AD32-B1EA-4D6C-8430-01B4904D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BBB6-AC03-454B-AFD7-CA4002B7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BAAD9-34E9-43B5-B8F5-B6A6C84F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14C67-6036-4A05-8BD9-D01A405A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483E7-D053-4DF4-B77D-8FCDA749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3C1C0-F898-421D-83A7-C91CFE63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F251E-4812-4212-A263-B51C355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796CE-1247-4DB9-B7C5-5BE574AD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A1A15-F38A-4103-B813-19AED54E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5231-B014-47B9-80E4-609A680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D6FE7-DF8B-4AA8-9CB9-A88A09D1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AB52B-17C0-458C-ABBD-9A35094F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F3C6F-7094-4A60-97C1-AE8B4FE2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8D60-48F9-4C5D-A1AB-947E04A4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3A806-D7B9-4FC1-8C68-3F336A38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5C486-D3F8-418F-92FA-8FB9E6D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B306D-4BB0-433E-B3EC-1E8BC197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1CBDD-C48F-4658-ADC0-BA50B750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AFC29-A67E-4329-9CFF-4AA1837C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7E084-92F9-4FF8-AC60-FF6F1A0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07D-329C-4BDE-B709-0E84A669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6CC10-B89D-48E5-96E6-A03B8E90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127A-4C51-4D7B-A021-905B8670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0FD09-6B53-4380-BCD6-455B7BC0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86D7-2604-4A96-AEA9-27E9CD0F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0CAD9-9276-4B60-878D-A30BA202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4FEA3-3955-4BCF-A98A-CD1E2531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E36B1-91CB-49D4-A23B-B523DB50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B6213-43C6-4B8D-B88E-413E8DD9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EA798-2D4F-4BD0-B314-BF9B2F7F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ECAFD-69AD-4A87-A669-75E59331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8AE-338F-4A72-B890-9ECF95E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96E4-13E2-40C3-83C2-53ABF57A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64253-A6F4-4585-9E23-73574EBA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88326-6889-4742-BB78-D99B239E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9B75-A1C7-417C-B905-E3572B69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DD13E-EF82-4358-BCB4-FA03BF87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D49-B822-4DC0-BC33-945FEC5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Виндрей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2025 и на плановый период 2026 и 2027 год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Бюджет  для граждан на 2025 год и на плановый период 2026 и 2027 годов подготовлен  на основании Решения Совета депутатов Варжеляйского сельского поселения №185 от 26.12.2024г.  «О бюджете Виндрейского сельского поселения Торбеевского муниципального района Республики Мордовия на 2025 год и на плановый период 2026 и 2027 годов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ЮДЖЕТ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БЮДЖЕТА ПОСЕЛЕНИЯ НА 2025  ГОД И НА ПЛАНОВЫЙ ПЕРИОД 2026 И 2027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4464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6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БЮДЖЕТА ВИНДРЕЙСКОГО СЕЛЬСКОГО ПОСЕЛЕНИЯ ТОРБЕЕВСКОГО МУНИЦИПАЛЬНОГО РАЙОНА РЕСПУБЛИКИ МОРДОВИЯ 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5 ГОД И НА ПЛАНОВЫЙ ПЕРИОД 2026 И 2027 ГОДОВ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Объект 2" descr=""/>
          <p:cNvPicPr/>
          <p:nvPr/>
        </p:nvPicPr>
        <p:blipFill>
          <a:blip r:embed="rId1"/>
          <a:stretch/>
        </p:blipFill>
        <p:spPr>
          <a:xfrm>
            <a:off x="2411280" y="2225520"/>
            <a:ext cx="463896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250920" y="2290680"/>
          <a:ext cx="8569080" cy="35704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3964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24"/>
          <p:cNvSpPr/>
          <p:nvPr/>
        </p:nvSpPr>
        <p:spPr>
          <a:xfrm>
            <a:off x="1193760" y="391320"/>
            <a:ext cx="69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ВИНДРЕЙ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НА 2025 ГОД И НА ПЛАНОВЫЙ ПЕРИОД 2026 И 202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6804000" y="19209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3"/>
          <p:cNvSpPr/>
          <p:nvPr/>
        </p:nvSpPr>
        <p:spPr>
          <a:xfrm>
            <a:off x="182520" y="575640"/>
            <a:ext cx="909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ВАРЖЕЛЯЙ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01680" y="2141640"/>
          <a:ext cx="8569440" cy="33908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4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7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 утвержденные 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3924360"/>
                <a:gridCol w="511164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Виндрейского сельского поселения   Понкратов Виктор Владими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7, Республика Мордовия, Торбеевский район, с. Виндрей, ул.Советская, д.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85-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n.sovet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1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2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Виндрей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User</cp:lastModifiedBy>
  <cp:lastPrinted>2015-12-24T07:26:25Z</cp:lastPrinted>
  <dcterms:modified xsi:type="dcterms:W3CDTF">2025-01-22T08:46:13Z</dcterms:modified>
  <cp:revision>634</cp:revision>
  <dc:subject/>
  <dc:title>ИЖМОРСКИЙ МУНИЦИПАЛЬНЫЙ РАЙОН</dc:title>
</cp:coreProperties>
</file>