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A351B-B9DD-4F5B-887C-718FC913852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DA682-B4A5-499B-99EA-4570578E7F4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27147-93C7-4323-9680-433576DA0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6C45D-8BFD-471D-8DAA-FFBBC483C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3FD47-8404-4275-A594-8A7FE681D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27187-14D3-40AB-A95F-B9A44D2F0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F1E98-815F-4B72-BF56-7DA2C9A3E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95CE3-46A8-4F5B-BDE7-CDC511763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05D88-E18C-4281-9555-9374A3CF0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6D8D3-9A0F-4D0D-A493-B78D746C8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05454-64DC-4231-87AC-09A4C387F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6ACCA-D845-4AE0-AF98-D0D4A3CFD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876B2-8BCB-455E-B02C-1FD4ED380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BB9ED-608F-4985-BFD3-3207C3F58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18973-E68E-4EC7-A5E3-75FE99733E0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hyperlink" Target="https://ru.wikipedia.org/wiki/&#1058;&#1086;&#1088;&#1073;&#1077;&#1077;&#1074;&#1089;&#1082;&#1080;&#1081;_&#1088;&#1072;&#1081;&#1086;&#1085;" TargetMode="External"/><Relationship Id="rId5" Type="http://schemas.openxmlformats.org/officeDocument/2006/relationships/hyperlink" Target="https://ru.wikipedia.org/wiki/&#1058;&#1086;&#1088;&#1073;&#1077;&#1077;&#1074;&#1089;&#1082;&#1080;&#1081;_&#1088;&#1072;&#1081;&#1086;&#1085;" TargetMode="External"/><Relationship Id="rId6" Type="http://schemas.openxmlformats.org/officeDocument/2006/relationships/hyperlink" Target="https://ru.wikipedia.org/wiki/&#1052;&#1086;&#1088;&#1076;&#1086;&#1074;&#1080;&#1103;" TargetMode="External"/><Relationship Id="rId7" Type="http://schemas.openxmlformats.org/officeDocument/2006/relationships/hyperlink" Target="https://ru.wikipedia.org/wiki/&#1057;&#1087;&#1072;&#1089;&#1089;&#1082;&#1080;&#1081;_&#1091;&#1077;&#1079;&#1076;_(&#1058;&#1072;&#1084;&#1073;&#1086;&#1074;&#1089;&#1082;&#1072;&#1103;_&#1075;&#1091;&#1073;&#1077;&#1088;&#1085;&#1080;&#1103;)" TargetMode="External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9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6" descr=""/>
          <p:cNvPicPr/>
          <p:nvPr/>
        </p:nvPicPr>
        <p:blipFill>
          <a:blip r:embed="rId1"/>
          <a:stretch/>
        </p:blipFill>
        <p:spPr>
          <a:xfrm>
            <a:off x="0" y="5046840"/>
            <a:ext cx="2706840" cy="18111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7" descr=""/>
          <p:cNvPicPr/>
          <p:nvPr/>
        </p:nvPicPr>
        <p:blipFill>
          <a:blip r:embed="rId2"/>
          <a:stretch/>
        </p:blipFill>
        <p:spPr>
          <a:xfrm>
            <a:off x="3203640" y="4973760"/>
            <a:ext cx="2541600" cy="18842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8" descr=""/>
          <p:cNvPicPr/>
          <p:nvPr/>
        </p:nvPicPr>
        <p:blipFill>
          <a:blip r:embed="rId3"/>
          <a:stretch/>
        </p:blipFill>
        <p:spPr>
          <a:xfrm>
            <a:off x="6248520" y="0"/>
            <a:ext cx="2895480" cy="21574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9" descr=""/>
          <p:cNvPicPr/>
          <p:nvPr/>
        </p:nvPicPr>
        <p:blipFill>
          <a:blip r:embed="rId4"/>
          <a:stretch/>
        </p:blipFill>
        <p:spPr>
          <a:xfrm>
            <a:off x="6119640" y="5070600"/>
            <a:ext cx="3024360" cy="1787400"/>
          </a:xfrm>
          <a:prstGeom prst="rect">
            <a:avLst/>
          </a:prstGeom>
          <a:ln w="0">
            <a:noFill/>
          </a:ln>
        </p:spPr>
      </p:pic>
      <p:sp>
        <p:nvSpPr>
          <p:cNvPr id="52" name="Text Box 10"/>
          <p:cNvSpPr/>
          <p:nvPr/>
        </p:nvSpPr>
        <p:spPr>
          <a:xfrm>
            <a:off x="2916360" y="189000"/>
            <a:ext cx="3671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Администрация Виндрейского сельского поселения Торбеевского муниципального района Республики Мордов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17"/>
          <p:cNvSpPr/>
          <p:nvPr/>
        </p:nvSpPr>
        <p:spPr>
          <a:xfrm>
            <a:off x="324000" y="2205000"/>
            <a:ext cx="8496000" cy="2232000"/>
          </a:xfrm>
          <a:prstGeom prst="flowChartAlternateProcess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БЮДЖЕТ ДЛЯ ГРАЖД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ffff"/>
                </a:solidFill>
                <a:uFillTx/>
                <a:latin typeface="Times New Roman"/>
              </a:rPr>
              <a:t>На основании постановления Администрации Виндрейского сельского поселения Торбеевског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ffff"/>
                </a:solidFill>
                <a:uFillTx/>
                <a:latin typeface="Times New Roman"/>
              </a:rPr>
              <a:t>Муниципального района Республики Мордовия №48 от 14.07.202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ffff"/>
                </a:solidFill>
                <a:uFillTx/>
                <a:latin typeface="Times New Roman"/>
              </a:rPr>
              <a:t>«Об исполнении бюджета Виндрейского сельского поселения за 1 полугодие 2023 года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4" descr=""/>
          <p:cNvPicPr/>
          <p:nvPr/>
        </p:nvPicPr>
        <p:blipFill>
          <a:blip r:embed="rId5"/>
          <a:stretch/>
        </p:blipFill>
        <p:spPr>
          <a:xfrm>
            <a:off x="0" y="0"/>
            <a:ext cx="2816280" cy="188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3" descr=""/>
          <p:cNvPicPr/>
          <p:nvPr/>
        </p:nvPicPr>
        <p:blipFill>
          <a:blip r:embed="rId2"/>
          <a:stretch/>
        </p:blipFill>
        <p:spPr>
          <a:xfrm>
            <a:off x="5724360" y="0"/>
            <a:ext cx="3419640" cy="22766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5" descr=""/>
          <p:cNvPicPr/>
          <p:nvPr/>
        </p:nvPicPr>
        <p:blipFill>
          <a:blip r:embed="rId3"/>
          <a:stretch/>
        </p:blipFill>
        <p:spPr>
          <a:xfrm>
            <a:off x="0" y="0"/>
            <a:ext cx="565164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Text Box 16"/>
          <p:cNvSpPr/>
          <p:nvPr/>
        </p:nvSpPr>
        <p:spPr>
          <a:xfrm>
            <a:off x="5651640" y="2349360"/>
            <a:ext cx="3492360" cy="39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индре́й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 — село в 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Times New Roman"/>
                <a:hlinkClick r:id="rId4"/>
              </a:rPr>
              <a:t>Торбеевском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Times New Roman"/>
                <a:hlinkClick r:id="rId5"/>
              </a:rPr>
              <a:t> районе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 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Times New Roman"/>
                <a:hlinkClick r:id="rId6"/>
              </a:rPr>
              <a:t>Республики Мордовия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, (ранее 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Times New Roman"/>
                <a:hlinkClick r:id="rId7"/>
              </a:rPr>
              <a:t>Спасского уезда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 Тамбовской губернии), административный центр Виндрейского сельского поселе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асположено на реке Виндрей в 27 км от Торбеево. Окружён лесом. В инфраструктуре села — основная (9 кл.) школа, Дом культуры, библиотека, продовольственный, промышленный магазины, столовая, пекарня; памятник воинам-землякам, павшим в годы Великой Отечественной войны. Виндрей — родина маршала С. Ф. Ахромеев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Text Box 6"/>
          <p:cNvSpPr/>
          <p:nvPr/>
        </p:nvSpPr>
        <p:spPr>
          <a:xfrm>
            <a:off x="826920" y="260280"/>
            <a:ext cx="73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Что такое муниципальный бюджет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8"/>
          <p:cNvSpPr/>
          <p:nvPr/>
        </p:nvSpPr>
        <p:spPr>
          <a:xfrm>
            <a:off x="250920" y="1628640"/>
            <a:ext cx="2376360" cy="2808360"/>
          </a:xfrm>
          <a:prstGeom prst="flowChartAlternateProcess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Бюджет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 – форм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образовани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и расходования денежных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средств, предназначенных дл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финансового обеспеч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задач и функций органов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местного самоуправ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8"/>
          <p:cNvSpPr/>
          <p:nvPr/>
        </p:nvSpPr>
        <p:spPr>
          <a:xfrm>
            <a:off x="3492360" y="1628640"/>
            <a:ext cx="2303640" cy="2808360"/>
          </a:xfrm>
          <a:prstGeom prst="flowChartAlternateProcess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Доходы бюджета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поступающие в бюджет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денежные средств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(налоги, штрафы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административны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платежи и сборы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финансовая помощь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8"/>
          <p:cNvSpPr/>
          <p:nvPr/>
        </p:nvSpPr>
        <p:spPr>
          <a:xfrm>
            <a:off x="6443640" y="1628640"/>
            <a:ext cx="2378160" cy="2808360"/>
          </a:xfrm>
          <a:prstGeom prst="flowChartAlternateProcess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Расходы бюджета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направляемые из бюдже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денежные средств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(финансовое обеспеч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социальных обязательст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муниципальных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учреждений, дорожно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хозяйство, ЖКХ и транспорт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капитальное строительств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и др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8"/>
          <p:cNvSpPr/>
          <p:nvPr/>
        </p:nvSpPr>
        <p:spPr>
          <a:xfrm>
            <a:off x="395280" y="5084640"/>
            <a:ext cx="8353440" cy="1368720"/>
          </a:xfrm>
          <a:prstGeom prst="flowChartAlternateProcess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ДЕФИЦИТ бюджета – превышение расходов бюджета над его доход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РОФИЦИТ бюджета – превышение доходов бюджета над его расход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Oval 10"/>
          <p:cNvSpPr/>
          <p:nvPr/>
        </p:nvSpPr>
        <p:spPr>
          <a:xfrm>
            <a:off x="3203640" y="2421000"/>
            <a:ext cx="3168720" cy="194472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Бюджетный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роцес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6"/>
          <p:cNvSpPr/>
          <p:nvPr/>
        </p:nvSpPr>
        <p:spPr>
          <a:xfrm flipV="1">
            <a:off x="4716360" y="1628640"/>
            <a:ext cx="0" cy="790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7"/>
          <p:cNvSpPr/>
          <p:nvPr/>
        </p:nvSpPr>
        <p:spPr>
          <a:xfrm>
            <a:off x="4716360" y="436572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8"/>
          <p:cNvSpPr/>
          <p:nvPr/>
        </p:nvSpPr>
        <p:spPr>
          <a:xfrm flipH="1" flipV="1">
            <a:off x="2916360" y="2060280"/>
            <a:ext cx="79200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9"/>
          <p:cNvSpPr/>
          <p:nvPr/>
        </p:nvSpPr>
        <p:spPr>
          <a:xfrm flipH="1">
            <a:off x="2123640" y="3500280"/>
            <a:ext cx="107964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10"/>
          <p:cNvSpPr/>
          <p:nvPr/>
        </p:nvSpPr>
        <p:spPr>
          <a:xfrm flipV="1">
            <a:off x="5940360" y="2133720"/>
            <a:ext cx="86508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11"/>
          <p:cNvSpPr/>
          <p:nvPr/>
        </p:nvSpPr>
        <p:spPr>
          <a:xfrm>
            <a:off x="6300720" y="371628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Oval 10"/>
          <p:cNvSpPr/>
          <p:nvPr/>
        </p:nvSpPr>
        <p:spPr>
          <a:xfrm>
            <a:off x="826920" y="1052640"/>
            <a:ext cx="2233800" cy="13683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Утвержд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тчета об исполнени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бюджет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едыдущего го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Oval 10"/>
          <p:cNvSpPr/>
          <p:nvPr/>
        </p:nvSpPr>
        <p:spPr>
          <a:xfrm>
            <a:off x="3780000" y="476280"/>
            <a:ext cx="1871640" cy="11523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оставлени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оекта бюджет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чередного го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Oval 10"/>
          <p:cNvSpPr/>
          <p:nvPr/>
        </p:nvSpPr>
        <p:spPr>
          <a:xfrm>
            <a:off x="6659640" y="1052640"/>
            <a:ext cx="2016000" cy="13683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ассмотр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оекта бюджет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чередного г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val 10"/>
          <p:cNvSpPr/>
          <p:nvPr/>
        </p:nvSpPr>
        <p:spPr>
          <a:xfrm>
            <a:off x="250920" y="3500280"/>
            <a:ext cx="2305080" cy="16560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Формиров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тчета об исполнен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бюджет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едыдущего го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Oval 10"/>
          <p:cNvSpPr/>
          <p:nvPr/>
        </p:nvSpPr>
        <p:spPr>
          <a:xfrm>
            <a:off x="3780000" y="5157720"/>
            <a:ext cx="1944360" cy="13683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Исполн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бюдже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 текущем год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Oval 10"/>
          <p:cNvSpPr/>
          <p:nvPr/>
        </p:nvSpPr>
        <p:spPr>
          <a:xfrm>
            <a:off x="6804000" y="3789360"/>
            <a:ext cx="2160720" cy="15112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твержд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бюджет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чередного г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Text Box 5"/>
          <p:cNvSpPr/>
          <p:nvPr/>
        </p:nvSpPr>
        <p:spPr>
          <a:xfrm>
            <a:off x="755640" y="189000"/>
            <a:ext cx="792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Гражданин и его участие в бюджетном процесс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8"/>
          <p:cNvSpPr/>
          <p:nvPr/>
        </p:nvSpPr>
        <p:spPr>
          <a:xfrm>
            <a:off x="250920" y="907920"/>
            <a:ext cx="3816360" cy="936720"/>
          </a:xfrm>
          <a:prstGeom prst="flowChartAlternateProcess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омогает формировать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доходную часть бюдже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(налог на доходы физических лиц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7"/>
          <p:cNvSpPr/>
          <p:nvPr/>
        </p:nvSpPr>
        <p:spPr>
          <a:xfrm>
            <a:off x="0" y="1916280"/>
            <a:ext cx="4211640" cy="8650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lbertus Extra Bold"/>
              </a:rPr>
              <a:t>КАК НАЛОГОПЛАТЕЛЬЩИ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Oval 10"/>
          <p:cNvSpPr/>
          <p:nvPr/>
        </p:nvSpPr>
        <p:spPr>
          <a:xfrm>
            <a:off x="900000" y="2852640"/>
            <a:ext cx="2521080" cy="115272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ЮДЖ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9"/>
          <p:cNvSpPr/>
          <p:nvPr/>
        </p:nvSpPr>
        <p:spPr>
          <a:xfrm>
            <a:off x="0" y="4076640"/>
            <a:ext cx="4211640" cy="8650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lbertus Extra Bold"/>
              </a:rPr>
              <a:t>КАК ПОЛУЧАТЕЛЬ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lbertus Extra Bold"/>
              </a:rPr>
              <a:t>СОЦИАЛЬНЫХ ГАРАНТ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8"/>
          <p:cNvSpPr/>
          <p:nvPr/>
        </p:nvSpPr>
        <p:spPr>
          <a:xfrm>
            <a:off x="179280" y="5157720"/>
            <a:ext cx="3816360" cy="107964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олучает социальны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гарантии – расходная ча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бюджета (образование, социальны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ыплаты и др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2" descr=""/>
          <p:cNvPicPr/>
          <p:nvPr/>
        </p:nvPicPr>
        <p:blipFill>
          <a:blip r:embed="rId2"/>
          <a:stretch/>
        </p:blipFill>
        <p:spPr>
          <a:xfrm>
            <a:off x="5076720" y="907920"/>
            <a:ext cx="3571920" cy="23893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3" descr=""/>
          <p:cNvPicPr/>
          <p:nvPr/>
        </p:nvPicPr>
        <p:blipFill>
          <a:blip r:embed="rId3"/>
          <a:stretch/>
        </p:blipFill>
        <p:spPr>
          <a:xfrm>
            <a:off x="5214960" y="3714840"/>
            <a:ext cx="3672000" cy="24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5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сновные параметры исполнения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юджета Виндрейского сельского поселения за             1 полугодие 2023 г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826920" y="1628640"/>
          <a:ext cx="7377120" cy="3143520"/>
        </p:xfrm>
        <a:graphic>
          <a:graphicData uri="http://schemas.openxmlformats.org/drawingml/2006/table">
            <a:tbl>
              <a:tblPr/>
              <a:tblGrid>
                <a:gridCol w="2078280"/>
                <a:gridCol w="1744560"/>
                <a:gridCol w="1744560"/>
                <a:gridCol w="1809720"/>
              </a:tblGrid>
              <a:tr h="621000"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Показатель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Утверждено, тыс. руб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Исполнено, тыс. руб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% исполн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9280"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. Доходы всего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 720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 034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60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800"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из них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Налоговые и неналоговые доходы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86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03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19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Безвозмездные поступл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 634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931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57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. Расходы всего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 719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964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56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lbertus Extra Bold"/>
              </a:rPr>
              <a:t>ДИНАМИКА ДОХОДОВ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 РАСХОДОВ ИСПОЛНЕНИЯ </a:t>
            </a:r>
            <a:r>
              <a:rPr b="1" lang="ru-RU" sz="2400" spc="-1" strike="noStrike">
                <a:solidFill>
                  <a:srgbClr val="000000"/>
                </a:solidFill>
                <a:latin typeface="Albertus Extra Bold"/>
              </a:rPr>
              <a:t>БЮДЖЕТ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ВИНДРЕЙСКОГО</a:t>
            </a:r>
            <a:r>
              <a:rPr b="1" lang="ru-RU" sz="2400" spc="-1" strike="noStrike">
                <a:solidFill>
                  <a:srgbClr val="000000"/>
                </a:solidFill>
                <a:latin typeface="Albertus Extra Bold"/>
              </a:rPr>
              <a:t> СЕЛЬСКОГО ПОСЕЛЕНИЯ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 1 полугодие 2023 Г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Object 4" descr=""/>
          <p:cNvPicPr/>
          <p:nvPr/>
        </p:nvPicPr>
        <p:blipFill>
          <a:blip r:embed="rId2"/>
          <a:stretch/>
        </p:blipFill>
        <p:spPr>
          <a:xfrm>
            <a:off x="339840" y="1428840"/>
            <a:ext cx="818496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спределение доходов бюджета Виндрейского сельского поселения за 1 полугодие 2023 г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755640" y="1397160"/>
          <a:ext cx="7488360" cy="4000320"/>
        </p:xfrm>
        <a:graphic>
          <a:graphicData uri="http://schemas.openxmlformats.org/drawingml/2006/table">
            <a:tbl>
              <a:tblPr/>
              <a:tblGrid>
                <a:gridCol w="1871640"/>
                <a:gridCol w="1873440"/>
                <a:gridCol w="1871640"/>
                <a:gridCol w="187164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именова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Утверждено, тыс. руб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Исполнено, тыс. руб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% исполн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Доходы 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 720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 034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Налоговые и неналоговые доходы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6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3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9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лог на доходы физических ли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логи на имуществ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емельный нало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1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звозмездные поступл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634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931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спределение бюджетных ассигнований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юджета Виндрейского сельского поселения за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 полугодие 2023 г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539640" y="1700280"/>
          <a:ext cx="8136000" cy="4236840"/>
        </p:xfrm>
        <a:graphic>
          <a:graphicData uri="http://schemas.openxmlformats.org/drawingml/2006/table">
            <a:tbl>
              <a:tblPr/>
              <a:tblGrid>
                <a:gridCol w="2664000"/>
                <a:gridCol w="2016000"/>
                <a:gridCol w="1944720"/>
                <a:gridCol w="151128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именова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Утверждено, тыс. руб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Исполнено, тыс. руб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% исполн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сходы 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719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64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щегосударственные вопрос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33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1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циональная оборо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9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жарная безопасно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циональная экономи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4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3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1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Жилищно-коммунальное хозяйств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2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8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циальная полити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9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служивание государственного и муниципального долг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12T08:21:05Z</dcterms:created>
  <dc:creator>Боковское С/П</dc:creator>
  <dc:description/>
  <dc:language>en-US</dc:language>
  <cp:lastModifiedBy>User</cp:lastModifiedBy>
  <dcterms:modified xsi:type="dcterms:W3CDTF">2023-07-14T09:09:06Z</dcterms:modified>
  <cp:revision>129</cp:revision>
  <dc:subject/>
  <dc:title>ПРОЕКТ БЮДЖЕТА БОКОВСКОГО СЕЛЬСКОГО ПОСЕЛЕНИЯ  НА 2014-2016 ГОДЫ</dc:title>
</cp:coreProperties>
</file>